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18FF6-255B-48EA-B097-36A0FEABA695}"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EA6EE-E75E-4BE9-859D-191205598A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37570-92B2-4FE4-8994-D7970275F7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2FBB0-2CF4-478B-B26D-5F8D161AE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7D733-7191-4E91-8872-4F6411D72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CE9C-592C-4753-850E-70ADBA08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EF4DD-D650-4AC1-BAAE-0C6CDFDBA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8CA79-3471-4F93-8C32-EEAEC8764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560E-17F5-4E14-A96E-8AC19152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1872-532E-4064-8476-391FABF4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E12A2-1347-4100-861B-DF57B37B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82BB-FDB7-4387-BD63-3158F9EB6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891C5-A209-46E0-BB90-7AF866568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11035-6198-4C42-904B-F2AC72FB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7E23-59F3-440E-8574-53875833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C5EF-2564-40FA-9A1D-DE9C4FC0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8624C-C549-4F95-9E17-CBC8BC20E8C9}"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3FC67-72D6-4A5C-8855-097BBFD87A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reativecommons.org/licenses/by/2.0/deed.e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 Four:</a:t>
            </a:r>
            <a:r>
              <a:rPr b="1" lang="en-US" sz="4000" spc="-1" strike="noStrike">
                <a:solidFill>
                  <a:srgbClr val="000000"/>
                </a:solidFill>
                <a:latin typeface="Calibri"/>
              </a:rPr>
              <a:t> </a:t>
            </a:r>
            <a:r>
              <a:rPr b="0" lang="en-US" sz="4000" spc="-1" strike="noStrike">
                <a:solidFill>
                  <a:srgbClr val="000000"/>
                </a:solidFill>
                <a:latin typeface="Calibri"/>
              </a:rPr>
              <a:t>PowerPoint</a:t>
            </a:r>
            <a:r>
              <a:rPr b="0" lang="en-US" sz="4000" spc="-1" strike="noStrike" baseline="30000">
                <a:solidFill>
                  <a:srgbClr val="000000"/>
                </a:solidFill>
                <a:latin typeface="Calibri"/>
              </a:rPr>
              <a:t>®</a:t>
            </a:r>
            <a:r>
              <a:rPr b="0" lang="en-US" sz="4000" spc="-1" strike="noStrike">
                <a:solidFill>
                  <a:srgbClr val="000000"/>
                </a:solidFill>
                <a:latin typeface="Calibri"/>
              </a:rPr>
              <a:t> Presentation by Angelo Chavez </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wer point presentation will focus on guidelines for proper referencing of books which will address copyright violations, plagiarism, and unethical us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57000"/>
            <a:ext cx="6729480" cy="78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ublic Domain</a:t>
            </a:r>
            <a:br>
              <a:rPr sz="1400"/>
            </a:br>
            <a:r>
              <a:rPr b="0" lang="en-US" sz="1400" spc="-1" strike="noStrike">
                <a:solidFill>
                  <a:srgbClr val="000000"/>
                </a:solidFill>
                <a:latin typeface="Calibri"/>
              </a:rPr>
              <a:t>Below is an example of a public domain online document that one can reproduce with limited restrictions given that it was published before 1923.</a:t>
            </a:r>
            <a:endParaRPr b="0" lang="en-US" sz="1400" spc="-1" strike="noStrike">
              <a:solidFill>
                <a:srgbClr val="000000"/>
              </a:solidFill>
              <a:latin typeface="Calibri"/>
            </a:endParaRPr>
          </a:p>
        </p:txBody>
      </p:sp>
      <p:sp>
        <p:nvSpPr>
          <p:cNvPr id="51" name="PlaceHolder 2"/>
          <p:cNvSpPr>
            <a:spLocks noGrp="1"/>
          </p:cNvSpPr>
          <p:nvPr>
            <p:ph type="subTitle"/>
          </p:nvPr>
        </p:nvSpPr>
        <p:spPr>
          <a:xfrm>
            <a:off x="685440" y="1849320"/>
            <a:ext cx="7605720" cy="45309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2" name="Picture 6" descr=""/>
          <p:cNvPicPr/>
          <p:nvPr/>
        </p:nvPicPr>
        <p:blipFill>
          <a:blip r:embed="rId1"/>
          <a:stretch/>
        </p:blipFill>
        <p:spPr>
          <a:xfrm>
            <a:off x="223920" y="1849320"/>
            <a:ext cx="8547120" cy="453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 in text Citation example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ollowing examples will demonstrate proper use of in text Citation using the Apa format when using the exact words of an author.  </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short story </a:t>
            </a:r>
            <a:r>
              <a:rPr b="0" i="1" lang="en-US" sz="1400" spc="-1" strike="noStrike">
                <a:solidFill>
                  <a:srgbClr val="000000"/>
                </a:solidFill>
                <a:latin typeface="Calibri"/>
              </a:rPr>
              <a:t>“The Cask of Amontillado</a:t>
            </a:r>
            <a:r>
              <a:rPr b="0" lang="en-US" sz="1400" spc="-1" strike="noStrike">
                <a:solidFill>
                  <a:srgbClr val="000000"/>
                </a:solidFill>
                <a:latin typeface="Calibri"/>
              </a:rPr>
              <a:t>” by Edgar Allan Poe  is an example of a story written in the first person.  He explains his intentions to his reader in the following way. Poe (1846)   “The thousand injuries of Fortunato I had borne as I best could, but when he ventured upon insult, I vowed revenge” (p. 1) In this short passage he is directly talking to the reader telling him what he’s is going to do to a character in the story.</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incorrect way to cite the passage would be to exclude quotations and mention of the author. The example below would be the incorrect way to cite the above passage</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short story </a:t>
            </a:r>
            <a:r>
              <a:rPr b="0" i="1" lang="en-US" sz="1400" spc="-1" strike="noStrike">
                <a:solidFill>
                  <a:srgbClr val="000000"/>
                </a:solidFill>
                <a:latin typeface="Calibri"/>
              </a:rPr>
              <a:t>“The Cask of Amontillado</a:t>
            </a:r>
            <a:r>
              <a:rPr b="0" lang="en-US" sz="1400" spc="-1" strike="noStrike">
                <a:solidFill>
                  <a:srgbClr val="000000"/>
                </a:solidFill>
                <a:latin typeface="Calibri"/>
              </a:rPr>
              <a:t>” by Edgar Allan Poe  is an example of a story written in the first person.  He explains his intentions to his reader by writing about the thousand injuries of Fortunato that he  had borne as I best he could, but when he ventured to insult him, he vowed revenge.  In this short passage he is directly talking to the reader telling him what he is going to do with a character in the story.</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 the above example I used many of Poe’s words without giving him any credit for the words he used in the story which is considered plagiarism. </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95168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Calibri"/>
              </a:rPr>
              <a:t>Ethical Usage Section</a:t>
            </a:r>
            <a:br>
              <a:rPr sz="2200"/>
            </a:br>
            <a:r>
              <a:rPr b="0" lang="en-US" sz="1300" spc="-1" strike="noStrike">
                <a:solidFill>
                  <a:srgbClr val="000000"/>
                </a:solidFill>
                <a:latin typeface="Calibri"/>
              </a:rPr>
              <a:t>Below is a personal website of mine that I use to organize music resources. To  be on the safe side if you where to use this website it would be best that you obtain permission from the creator.  This includes any images or text from this website.   If a website has a copyright symbol then you have to get permission to use it. </a:t>
            </a:r>
            <a:endParaRPr b="0" lang="en-US" sz="1300" spc="-1" strike="noStrike">
              <a:solidFill>
                <a:srgbClr val="00000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3" descr=""/>
          <p:cNvPicPr/>
          <p:nvPr/>
        </p:nvPicPr>
        <p:blipFill>
          <a:blip r:embed="rId2"/>
          <a:stretch/>
        </p:blipFill>
        <p:spPr>
          <a:xfrm>
            <a:off x="457200" y="1692360"/>
            <a:ext cx="8229600" cy="44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 commercial use </a:t>
            </a:r>
            <a:endParaRPr b="0" lang="en-US" sz="4400" spc="-1" strike="noStrike">
              <a:solidFill>
                <a:srgbClr val="000000"/>
              </a:solidFill>
              <a:latin typeface="Calibri"/>
            </a:endParaRPr>
          </a:p>
        </p:txBody>
      </p:sp>
      <p:sp>
        <p:nvSpPr>
          <p:cNvPr id="59" name=""/>
          <p:cNvSpPr txBox="1"/>
          <p:nvPr/>
        </p:nvSpPr>
        <p:spPr>
          <a:xfrm>
            <a:off x="412920" y="141768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is important to note that many institutions will allow you to use their materials as long as it is being used for non commercial use. In other words they don’t want you using their images or text to sell products or services.  Or some will let you use their image you just have to give them credit for it (attribution). (see the example below). The Flckr website tells you what kind of restrictions are on their pictu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igate bird by John Pickens                       Credit is given to the creator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u="sng">
                <a:solidFill>
                  <a:srgbClr val="0000ff"/>
                </a:solidFill>
                <a:uFillTx/>
                <a:latin typeface="Calibri"/>
                <a:hlinkClick r:id="rId1"/>
              </a:rPr>
              <a:t>http://creativecommons.org/licenses/by/2.0/deed.en</a:t>
            </a:r>
            <a:r>
              <a:rPr b="0" lang="en-US" sz="1800" spc="-1" strike="noStrike" u="sng">
                <a:solidFill>
                  <a:srgbClr val="000000"/>
                </a:solidFill>
                <a:uFillTx/>
                <a:latin typeface="Calibri"/>
              </a:rPr>
              <a:t>                              This link gives you what restrictions are on the photo which are under a creative common license</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 name="Picture 3" descr="5258837865_e3daf73155_m.jpg"/>
          <p:cNvPicPr/>
          <p:nvPr/>
        </p:nvPicPr>
        <p:blipFill>
          <a:blip r:embed="rId2"/>
          <a:stretch/>
        </p:blipFill>
        <p:spPr>
          <a:xfrm>
            <a:off x="1089000" y="3247920"/>
            <a:ext cx="1743120" cy="959040"/>
          </a:xfrm>
          <a:prstGeom prst="rect">
            <a:avLst/>
          </a:prstGeom>
          <a:ln w="0">
            <a:noFill/>
          </a:ln>
        </p:spPr>
      </p:pic>
      <p:sp>
        <p:nvSpPr>
          <p:cNvPr id="61" name="Left Arrow 4"/>
          <p:cNvSpPr/>
          <p:nvPr/>
        </p:nvSpPr>
        <p:spPr>
          <a:xfrm>
            <a:off x="3705120" y="4334040"/>
            <a:ext cx="822600" cy="353880"/>
          </a:xfrm>
          <a:prstGeom prst="leftArrow">
            <a:avLst>
              <a:gd name="adj1" fmla="val 50000"/>
              <a:gd name="adj2" fmla="val 49869"/>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eft Arrow 6"/>
          <p:cNvSpPr/>
          <p:nvPr/>
        </p:nvSpPr>
        <p:spPr>
          <a:xfrm>
            <a:off x="5803920" y="4960800"/>
            <a:ext cx="1231920" cy="368280"/>
          </a:xfrm>
          <a:prstGeom prst="leftArrow">
            <a:avLst>
              <a:gd name="adj1" fmla="val 50000"/>
              <a:gd name="adj2" fmla="val 49928"/>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Tip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use an image or text to be on the safe side ask for per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lckr website images lets you know how you can use their pic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you give credit to the creator of a piece of work.</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0:47:31Z</dcterms:created>
  <dc:creator>angelo  chavez</dc:creator>
  <dc:description/>
  <dc:language>en-US</dc:language>
  <cp:lastModifiedBy>angelo  chavez</cp:lastModifiedBy>
  <dcterms:modified xsi:type="dcterms:W3CDTF">2010-12-14T02:00:59Z</dcterms:modified>
  <cp:revision>9</cp:revision>
  <dc:subject/>
  <dc:title>Public Domain Below is an example of an online document that one can reproduce with limited restictions given that it was pulbished before 1923.</dc:title>
</cp:coreProperties>
</file>